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C0C-05E8-478F-8459-1677A8C5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BCD-11E6-43DA-B1E9-0E0904A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55253-DEB9-4D56-94D1-78A8ECD2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6E050-0F26-4530-A2F0-84F92F7B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AA515-168C-4CF0-B358-7D9B780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DD01F-0E8A-4F8C-9DB4-D2593DA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3B273-899B-4D52-9883-9A55504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8730C-849D-433F-A419-1B5C216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D8EDA-B65E-4B6E-AEDA-28FA5A9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9536E-33DA-485D-A4F8-08940710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AB609-44B8-488B-BE1C-6727D4B5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C52-F83F-49E4-886F-6CE0FEE5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78A-267D-4654-B4DA-6F18547E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C616-AEDE-4FCC-A11D-3FEFFF75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7818-744C-4DC3-8C53-0C912749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0222-287B-4B20-A2E6-E6A74D9F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9BBC-5B95-4017-87DF-11B60E23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E4B6-797C-41BA-B1C0-152526FA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DD24-987A-4401-AC74-65EFDB9A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F6E7-7722-497F-B742-CEDD950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2A9-84A6-4D39-9C2E-5F8D458A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D060-719B-4D78-8B00-B1A24E09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89B0-18CF-4BB7-A527-7359DAD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9C8-45F5-434F-B8AA-2F3B3A34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47B6-E77E-4DAB-AF47-9A8704CE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7F17-7ABE-45BF-9461-220934AE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CF7E-EACA-4041-840B-10454BDD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E7CC-6354-40BB-B7ED-882E9BB9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4B37-872E-493F-8C09-D32FB5E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0BD0-737E-4E91-8227-F860934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40F3-79B2-4602-9580-01A671C4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599-9641-4DB7-9EA2-2B62BE2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6457-97DC-44D8-8763-BF3C6BD7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B003-58E8-44BA-B63B-4974CC8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8A73-4D99-454B-B184-3BDFC64F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2DE1-D6E0-4947-A8BD-E751F46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367E-3C40-4608-AA28-160CC59B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C625-FFCC-4A2E-B0EE-538FB3EB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0D56-DE95-4D6E-9CE6-C33580A5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7FF1-647E-4E31-B106-1C8FB2F5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B25E-D7A8-4AF1-8194-D346C225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42EA-DB8C-4E43-B127-4B495A5B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A37-9DBA-4040-A4BD-0A179F5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D9F5-C420-47E7-A5DF-B82288E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DE67-ED56-4582-AA2E-F99B6E74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AC05-1847-4F84-9035-AF9DE36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76A4-A376-4D9E-8FB9-8F0936C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CA41-B05C-49FC-B1FD-6A1E0B9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C75E-766F-4331-B7FC-BD95CEBD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0DCA-80DF-417E-BC7C-9631FE0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6423-33A9-4AF8-94D5-43873226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CD85-0E10-4D4B-89F8-3192F2E9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9F8A-17FE-484D-9279-9110A19B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219-D673-4C42-868F-A4386BC8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BF753-D532-496C-B90A-F7EE6A2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CD0A-64DD-4B43-8A7F-F36483F3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4588-9FD1-468B-8579-2C4D380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9C14-E5FE-4C44-B51B-352EF72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93D0-0B5A-46F9-BE42-157592DB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0104-6926-4D4C-B191-3BBC369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8C90-CF1F-4BAC-8146-E65D8E2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A63B3-D1AA-4917-8ECA-1FB9840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A720-2A43-4611-9219-8BDCF070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4D0F-E0F3-4BF5-A40C-C0902851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B19-E0C6-4AF8-B326-6FFFE885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7CDB-C3F7-4EBE-A92D-B72E7E77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D3DE-B9AB-456E-AF6A-D11A65E0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10061-382C-4C3E-BD5D-428E2EB6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AB067-FEDC-4271-B75F-FB0C549D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CB6AF-5809-40E1-AA42-5636CE57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6331-1FA4-4A47-A545-1084F361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D57D-C2C6-4B9A-93C7-74CCDEC0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EC91-8E59-4F92-A075-27A4903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1F077-D0AC-44DE-A2C4-7863B0F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C19C-2D88-46D6-8E7D-8D1E77F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351-264B-4957-ABB5-A6792EE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21E84-319A-45D6-822D-B862B146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C061F-1CB9-4BC9-AD2D-58AB5991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2FBB-840C-4982-B141-DC5C30EE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EB79C-D7DB-4910-8EC4-A93B51BA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2FE2-171B-4111-B1E0-3C861E25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1C5C8-28A8-4FCB-AD3F-3D4AFA65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D2BF-45AF-4538-B74F-009BF020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B11B-609F-4C25-B31E-F3890BF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990C-915F-41AD-A0CA-6291D5D8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5203-FA78-4D8F-9B42-2DA4F80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096-7EAD-44ED-9A15-448DF53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B2492-80DD-46F5-8774-C746C82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F3F88-2C64-4156-8CCA-C3CEC99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61EB3-9A4B-429C-B59D-F523E63D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30C2C-A8FC-49B1-80CD-FD1CA07A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83771-D3D7-41FB-98B1-56271677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999A-7485-4561-B90A-A8AA0B98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A3D5B-1327-4AE6-817A-DDE7B50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36F26-247E-4FF5-9F21-0706C75A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C8965-5661-4EE2-90E0-757E861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26BB-BA37-49F2-AEF5-A7B5C1D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181-CB8E-4FE6-8D2D-7C43F34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B5BE-0AC4-41E6-BE6D-D05555A1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9D38-01D3-47A3-BC83-D641D26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49E5E-8F2D-4576-B17E-876D3FB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CE223-B4E6-4981-BAD3-22B1D1C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F671-ABD0-4D75-A6EE-04B4CCA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1343C-7C29-4663-BF8A-94BE202D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A45D-B274-4305-A833-D2B6AA3B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0DF78-26EB-484E-AB91-55B90BEF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CE113-63F1-480C-BBE1-1A979A09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B0E5-CA26-42A8-A27B-3A24528A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E8DF-2860-46DF-889D-4C6D9FA615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EF7-7768-4A13-8AD9-78C2ECB1E2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C9B-C826-4E02-B5F8-7E7B9BBAE8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447D-6C9F-40C8-8319-4664CDDF18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5BDF-8BDC-4A54-B0B5-521E3C3C2D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BF3A-B690-4495-A5E8-F1BA58B348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6D8F-82CB-4949-8527-113672E749F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2436-4536-4E30-ACEA-1B7A6DF03A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2998-33A0-47D9-962B-3290575C12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3400" y="-1093680"/>
            <a:ext cx="460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ONE - PERIOD TEST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chool year: 2014 - 2015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MATRIX FOR THE TEST FROM UNIT </a:t>
            </a:r>
            <a:r>
              <a:rPr b="1" lang="en-US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4</a:t>
            </a:r>
            <a:r>
              <a:rPr b="1" lang="vi-VN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TO UNIT </a:t>
            </a:r>
            <a:r>
              <a:rPr b="1" lang="en-US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6</a:t>
            </a:r>
            <a:r>
              <a:rPr b="1" lang="vi-VN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-</a:t>
            </a:r>
            <a:r>
              <a:rPr b="1" lang="vi-VN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ENGLISH </a:t>
            </a:r>
            <a:r>
              <a:rPr b="1" lang="en-US" sz="1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52280" y="152280"/>
          <a:ext cx="8763120" cy="6713640"/>
        </p:xfrm>
        <a:graphic>
          <a:graphicData uri="http://schemas.openxmlformats.org/drawingml/2006/table">
            <a:tbl>
              <a:tblPr/>
              <a:tblGrid>
                <a:gridCol w="914400"/>
                <a:gridCol w="1035000"/>
                <a:gridCol w="714600"/>
                <a:gridCol w="704880"/>
                <a:gridCol w="706320"/>
                <a:gridCol w="1258920"/>
                <a:gridCol w="685800"/>
                <a:gridCol w="762120"/>
                <a:gridCol w="685800"/>
                <a:gridCol w="761760"/>
                <a:gridCol w="533520"/>
              </a:tblGrid>
              <a:tr h="987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h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te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tences/ Poi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 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 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 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 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</a:t>
                      </a:r>
                      <a:r>
                        <a:rPr b="1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 knowled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</a:t>
                      </a:r>
                      <a:r>
                        <a:rPr b="1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. List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0" y="799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Franklin Gothic Medium"/>
              </a:rPr>
              <a:t>BẢNG MÔ TẢ MA TRẬN ĐỀ KIỂM TRA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Franklin Gothic Medium"/>
              </a:rPr>
              <a:t>1 TIẾT LẦN 2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Franklin Gothic Medium"/>
              </a:rPr>
              <a:t>MÔN: TIẾNG ANH LỚP 6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ấp độ 1: Nhận biế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ấp độ 2: Thông hiể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ấp độ 3: Vận dụ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152280" y="228600"/>
          <a:ext cx="8763120" cy="6572160"/>
        </p:xfrm>
        <a:graphic>
          <a:graphicData uri="http://schemas.openxmlformats.org/drawingml/2006/table">
            <a:tbl>
              <a:tblPr/>
              <a:tblGrid>
                <a:gridCol w="554040"/>
                <a:gridCol w="5775480"/>
                <a:gridCol w="903240"/>
                <a:gridCol w="487440"/>
                <a:gridCol w="487440"/>
                <a:gridCol w="555480"/>
              </a:tblGrid>
              <a:tr h="5994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Câ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Nội 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Đáp 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Bài họ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Cấp đ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Điểm s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64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ff"/>
                        </a:buClr>
                        <a:buSzPct val="70000"/>
                        <a:buFont typeface="Times New Roman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LANGUAGE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Mark the letter A, B, C or D to indicate the word whose underlined part is pronounced differently from that of the rest in each of the following ques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v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lage               B. c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y                       C. t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                           D. b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c                B. m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um               C. st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nt                       D. l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Odd one ou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Geography        B. hospital                C. Histo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D. Lit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beautifu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B. lak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C. par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D. rice pad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Mark the letter A, B, C or D on your answer sheet to the correct answer to each of the following ques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is a teacher. She teaches in a 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hospital           B. factory                     C. School                       D. far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en …… Ba have English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are                   B. does                        C. is                                 D. 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do you have Math? At eight o’clo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What time         B. When                     C. What                         D. How 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y family often watch ……………… in the ev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the radio            B. television              C. book                          D. house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 have lunch ……… h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at                        B. in                          C. on                              D. 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time does she ..……. her fa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washes               B. wash                     C. watches                      D. was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 often……………. to music on 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to listen              B. listening               C. listens                         D. li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neighborhood, there ………….. a store, a hotel and a park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are                     B. have                     C. has                              D.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28600" y="152280"/>
          <a:ext cx="8763120" cy="6578640"/>
        </p:xfrm>
        <a:graphic>
          <a:graphicData uri="http://schemas.openxmlformats.org/drawingml/2006/table">
            <a:tbl>
              <a:tblPr/>
              <a:tblGrid>
                <a:gridCol w="554040"/>
                <a:gridCol w="5775480"/>
                <a:gridCol w="903240"/>
                <a:gridCol w="487080"/>
                <a:gridCol w="487440"/>
                <a:gridCol w="555840"/>
              </a:tblGrid>
              <a:tr h="2451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II.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Choose the best ans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llo! My name’s Tam. I am eleven years old. Every day, I get up at six o’clock. Every morning, I go to school with my friend. Every afternoon, I help my Mom and play games. Every evening, I do my homework and go to bed at ten o’clock.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time does Tam get up every day? – He gets up at 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two                 B. fou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C. f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D. s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m is ………years ol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11                    B. 10                C.12                       D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does he do every evening? – He 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helps Mom.                              B. does his homework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. listens to music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D. plays gam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does Tam do?-He is a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. teacher             B. doctor         C. student               D. wor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Read the text and answer the ques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i! I’m Lan. I live in the country. In front of my house, there is a big yard. Behind my house, there are tall trees. Behind the tall trees, there is a lake. To the left of my house, there is a well. To the right of my house, there are flow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ere does Lan l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 lives in the countr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is there in front of her hou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re is a big yar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 there is a lake behind the tall tre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es, there 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is there to the left of her hou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re is a we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52280" y="152280"/>
          <a:ext cx="8839440" cy="6715080"/>
        </p:xfrm>
        <a:graphic>
          <a:graphicData uri="http://schemas.openxmlformats.org/drawingml/2006/table">
            <a:tbl>
              <a:tblPr/>
              <a:tblGrid>
                <a:gridCol w="549360"/>
                <a:gridCol w="5724720"/>
                <a:gridCol w="896760"/>
                <a:gridCol w="482760"/>
                <a:gridCol w="550800"/>
                <a:gridCol w="635040"/>
              </a:tblGrid>
              <a:tr h="2286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III. WRIT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Arrange the following words into the complete senten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 / what / time / get / you / up / 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……………………………………………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time do you g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p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 / goes/ to/ school / half/ past/ six / sh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……………………………………………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go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 schoo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 half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st six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/ on/ and/ Monday/ English/ I/ Fri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……………………………………………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hav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glis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da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iday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oors/ your/ does/ have/ many/ How/ schoo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……………………………………………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ow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oor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es y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choo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Make questions for each of the underline par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is in grade </a:t>
                      </a:r>
                      <a:r>
                        <a:rPr b="0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6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……………………………………………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ic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ade i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in 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re are </a:t>
                      </a:r>
                      <a:r>
                        <a:rPr b="0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trees and flower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in the park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……………………………………………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at 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re 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 park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228600"/>
          <a:ext cx="9144000" cy="5195880"/>
        </p:xfrm>
        <a:graphic>
          <a:graphicData uri="http://schemas.openxmlformats.org/drawingml/2006/table">
            <a:tbl>
              <a:tblPr/>
              <a:tblGrid>
                <a:gridCol w="216000"/>
                <a:gridCol w="5585040"/>
                <a:gridCol w="1244520"/>
                <a:gridCol w="693360"/>
                <a:gridCol w="711000"/>
                <a:gridCol w="69408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Nội d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Đáp 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Bài họ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Cấp đ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Điểm s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Franklin Gothic Book"/>
                        </a:rPr>
                        <a:t>Listen and select the correct op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Franklin Gothic 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. hospital    B. temple  C. stadium D. muse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Franklin Gothic 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. bookstore B. Store    C. factory   D. restau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Franklin Gothic 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. yard          B. park     C. lake        D.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Franklin Gothic 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. house       B. tree      C. hotel       D. 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Franklin Gothic Book"/>
                        </a:rPr>
                        <a:t>Listen and comple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ga:  When do we have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)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:    We have it on Tuesday and Thurs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ga:  When do we have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)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:     We have it on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)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, Wednesday and Fri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ga:  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)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an have Math on Frida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:      No, she doesn’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) His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) 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) 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) 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04:14:58Z</dcterms:created>
  <dc:creator>Win7</dc:creator>
  <dc:description/>
  <dc:language>en-US</dc:language>
  <cp:lastModifiedBy>Root</cp:lastModifiedBy>
  <dcterms:modified xsi:type="dcterms:W3CDTF">2014-12-16T08:05:41Z</dcterms:modified>
  <cp:revision>15</cp:revision>
  <dc:subject/>
  <dc:title>Slide 1</dc:title>
</cp:coreProperties>
</file>