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FB7-2292-4378-8D3E-7F3ADBF9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E75-6EF1-4496-BCD0-6DB961FB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D25-4D45-464E-8951-7207114E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ED2-65AC-4192-A776-A643C59D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35D-6366-4216-B2DB-4D7F48EA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5D6-878D-4C28-A7A7-E0BD9239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AD6-4295-46E3-B630-68945BCE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F51-CDF1-425F-AFF8-1209875D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468-A7F5-45F3-988D-0A0F5D31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C92-CD59-4531-A51E-B1A928E2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934-EFF0-4256-B589-94C88DEE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DA6-2822-491D-992E-E909025C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283E-4B5D-46FC-92CC-554618A8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2280" y="152280"/>
            <a:ext cx="9982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AMPLE]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EAKING PROGRESS TES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GLISH 6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304920"/>
          <a:ext cx="8839440" cy="6351480"/>
        </p:xfrm>
        <a:graphic>
          <a:graphicData uri="http://schemas.openxmlformats.org/drawingml/2006/table">
            <a:tbl>
              <a:tblPr/>
              <a:tblGrid>
                <a:gridCol w="690840"/>
                <a:gridCol w="901440"/>
                <a:gridCol w="1609920"/>
                <a:gridCol w="912600"/>
                <a:gridCol w="459000"/>
                <a:gridCol w="458640"/>
                <a:gridCol w="424080"/>
                <a:gridCol w="423720"/>
                <a:gridCol w="396720"/>
                <a:gridCol w="397080"/>
                <a:gridCol w="571320"/>
                <a:gridCol w="549360"/>
                <a:gridCol w="549360"/>
                <a:gridCol w="495360"/>
              </a:tblGrid>
              <a:tr h="245160"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rt/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ction/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.no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ngu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b-ski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e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ext types/Material/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tu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r. Specs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uestion leve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. typ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. o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e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r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lo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lo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n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p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y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Pronunc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Fluenc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Inton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Grammar and vocabulary accurac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Asking and answering about personal information, family and school  which Ss have learnt in the curriculum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Making some simple conversations: greeting, making and responding the commands, speaking about the position of the objects, asking and answering about the time, describing people, describing the weather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swering the questions have been taught in the curriculum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en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d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uest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 mi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280" y="1447920"/>
          <a:ext cx="8839440" cy="4870440"/>
        </p:xfrm>
        <a:graphic>
          <a:graphicData uri="http://schemas.openxmlformats.org/drawingml/2006/table">
            <a:tbl>
              <a:tblPr/>
              <a:tblGrid>
                <a:gridCol w="690840"/>
                <a:gridCol w="901440"/>
                <a:gridCol w="1609920"/>
                <a:gridCol w="912600"/>
                <a:gridCol w="459000"/>
                <a:gridCol w="458640"/>
                <a:gridCol w="424080"/>
                <a:gridCol w="423720"/>
                <a:gridCol w="396720"/>
                <a:gridCol w="397080"/>
                <a:gridCol w="571320"/>
                <a:gridCol w="549360"/>
                <a:gridCol w="549360"/>
                <a:gridCol w="495360"/>
              </a:tblGrid>
              <a:tr h="361800"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rt/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ction/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.no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ngu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b-ski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e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ext types/Material/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tu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r. Specs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uestion leve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. typ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. o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e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r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lo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lo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n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p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y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89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Pronunc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Fluenc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Inton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Grammar and vocabulary accurac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 Asking and answering about personal information, family and school  which Ss have learnt in the curriculum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swering the questions have been taught in the curriculum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en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d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uest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971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 mi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34240" y="22860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TRIX OF THE FIRST SEMESTER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GLISH 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ml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1315080" y="469800"/>
            <a:ext cx="7023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I. PERSONAL INFORM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What’s your name?                                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How do you spell it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How old are you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Where do you live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What time do you get up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at do you do every morning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. What do you do after school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. What subject do you like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 How do you go to school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.What time do you go to school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Aml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90160" y="546120"/>
            <a:ext cx="8221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II. FAMILY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Who do you live with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How many people are there in your family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Who are they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What does your father do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What does your mother do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at does your brother/sister do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. How old is your father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. What’s his name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 How old is your mother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.What’s her name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ml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239400" y="393480"/>
            <a:ext cx="9030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III. SCHOOL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Where is your school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Which grade are you i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Which class are you i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Is your school big or small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How many students are there in your class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How many classrooms are there in your school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. What time do classes start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. What time do they end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 Which classes do you have on Monday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.When do you have English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0:58:31Z</dcterms:created>
  <dc:creator>XUAN DONG</dc:creator>
  <dc:description/>
  <dc:language>en-US</dc:language>
  <cp:lastModifiedBy>Root</cp:lastModifiedBy>
  <dcterms:modified xsi:type="dcterms:W3CDTF">2014-12-16T08:05:03Z</dcterms:modified>
  <cp:revision>104</cp:revision>
  <dc:subject/>
  <dc:title>Thursday, November 27th 2009</dc:title>
</cp:coreProperties>
</file>